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BD34-4D65-4255-9919-3E061F11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DF2-3591-4CD6-9D66-9DB6E7B4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7AF5-13A9-4580-A8F8-EB842DF6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39C8-7893-49B2-90D1-30BDD017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A2E-3EC8-48D8-8FCF-91041A72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E27-D5B8-4E58-9EA5-8BEA9D1E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B92-5FD8-47DD-BF24-09A029E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A02-30BC-49B2-BD77-C9F8E1AC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18B-ABFE-418F-BE4D-2B7FD829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E633-FFC6-4805-93AF-9BE8A659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593-E372-4E52-9EBE-F79EF1D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840-471A-4F74-A737-3A69622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D5D-C2F7-467D-8047-D1AE86B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7B85-5C86-4519-B69F-EFB6E689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7013-E044-4105-9F77-E4D04DB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569-7A2B-4638-A882-D597EE3A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9EC-6D9C-429A-910F-466360A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5FBE-86E1-4553-BB5A-673870F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197C-FD1E-4431-93B1-338ADF3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91EB-9F7E-4271-B94E-976B089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F05-74B8-495D-89F0-1F9C5EC1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5975-1B56-42EC-9265-D7CDF675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42B5B-6DCD-43B8-8164-F45F4A74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71EB1-DAA3-46C4-ADAF-F0051CA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500B8-2E28-4A8B-AB9E-401C76FD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F90B9-A712-41B7-BBEE-4D859ABF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CD0C2-ADA4-4531-AB74-E051DCE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3F7-E793-43AE-AAE3-4BB794A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21DB-3C5D-41EB-BFA4-20CE481F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6BAEC-A706-493E-990D-798F8D5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01C85-20E7-4211-829B-382B933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A2456-59C8-4E67-8B44-B092A1C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E3E9-24E6-49F8-AC8F-4A55AF9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A285B-0EE3-4066-B4FA-2D33A223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F05A6-8997-4902-9E7D-FF807B2C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7A7C-CC5D-4AF0-8156-563406FA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07796-1D92-4565-B738-545E355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0AE9-40FD-4E6F-AAF0-987EDAF8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F3D-221E-42FF-BDCB-BF7187B0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41D7-6AC0-46CE-8808-104AA1C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7129-0DAF-42CD-B89E-AFF0879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BDC0-2882-4098-B21F-1033FDF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9A6C-BCD5-4DF2-825B-5EE36B4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D697-042B-4FB5-8216-C07B447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3B12-758C-4239-8064-25C2080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158E-1E7A-49D4-A1A2-10FD2F8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9B18-2A91-4C2C-AEEC-E777E38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C867-26C2-49A3-9629-6443D0FA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12E54-AD94-4231-A16A-278C2402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D96-6C77-48BC-B739-03F2966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29417-CA8B-439D-BD78-E6736F0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792BD-7653-4B0C-BE20-F56D55AE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7849D-CC3C-41AE-AD82-5279C1E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F5EF9-3E15-4B1B-8C6B-E0B12E2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758D3-E742-4920-B2B4-9E9CCA4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0D40C-2D52-4F60-9D13-2179AF85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1D893-ADEF-4298-86C3-765B501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4761E-43AC-4151-888B-1FB5151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49A5A-3B87-42B4-835E-467E0D26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4813D-4448-42B7-B979-A20E81B7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0E5-2BAB-461B-A01D-A0505E5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4B867-4CEE-435C-8C67-FB666F93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AB674-2480-48D5-8459-1C61328E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D98C6-18FD-4E61-8A44-C630345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B8B46-D59D-4FD6-973A-00EAB0E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4153C-27FA-41DF-8A1F-D5A9602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0B5CA-F7F9-4E03-AAAB-1CCCC7AC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53EF1-3206-42E0-803B-3ADD4E77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60007-3A28-4700-963C-F8D1A70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ACE65-4471-466F-9BF9-88CF17C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CC266-4293-445A-815A-76B30AC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61D-1F6F-48C9-BFB0-874370C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D0678-986D-495A-89BC-02E37A39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D9375-BE6E-460A-80EF-F9235C45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4C001-F0AE-4245-ADF9-8271F54D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B9B8B-A78B-45C2-A5A9-93A94E5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3CE8B-9EC0-4988-BB26-39947BCD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4B164-B54E-4851-ABB1-453AFD0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3D09A-0C0C-4FD4-8AA2-1EA1C27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156EF-31AD-4FF5-B724-AFE436C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78A6A-3A70-44E7-B431-023A139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AFFED-4FB8-47CF-BB9C-953B1DD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203-2067-4D21-B400-CB0412A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0DE08-130F-46A5-BD1C-6377340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42DE7-0A62-408E-94AD-E57AD61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D8FF3-13C5-4257-8CE0-61237192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1A67D-2387-4A49-B3A0-5008D5FA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9987A-57D9-4994-8A69-C470108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B64-096F-4D35-A2F1-29C517F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B765-5192-4BC3-AED2-FAEC7F23B4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EB3-91DD-429E-A28E-A29A84B8BD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412-AA1E-4BCF-A9A3-D1C80D882E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5571-3E96-4580-A755-F31B3E3C3B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B28-3EF2-45CB-9943-76FE89531E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86B-A9B8-4E2F-B100-DBCFB6087E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AED-942F-4D45-8F84-800BD051B2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gRrKZL7U8AwiGjzbkF/SIG=12t1vol53/EXP=1269300625/**http%3A//microbiologystudents.com/data/gal_media/1024033_com_h1n1_influ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ds.yahoo.com/_ylt=A0WTb_hArKZLZw8Ay32jzbkF/SIG=11svc574l/EXP=1269300672/**http%3A//planetflu.com/images/flu.ht20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575f6d"/>
                </a:solidFill>
                <a:latin typeface="Comic Sans MS"/>
              </a:rPr>
              <a:t>BACTERIA &amp; VIRUSES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INFECTIOUS DISEASE SPRE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ctious disease can be spread through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n infected per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Influenza (V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 contaminated objec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thleteis foot (F) or Influenza (V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act with an infected ani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Lyme Disease (B): Bite from infected 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 with an environmental sour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629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CTORS HELP SPREAD DISEA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ctor is an organism that helps a disease spre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 and insects serve as ve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rier is an organism infected with and can transmit disease causing microbe to another living th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124080" cy="2060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0477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VIR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st Nile Vir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al Mening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on Col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IDS/H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icken P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ow Fever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bo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VIR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use disease by either damaging or killing cel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rst attaches itself to a healthy cell and then injects its DNA or RNA into ce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n replicates once inside infected ce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 Cure, just prevention with vaccin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Vaccine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: a substance introduced into the body to stimulate the production of chemicals that destroy specific viruses or bacteria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324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597040" cy="30481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6"/>
          <p:cNvSpPr/>
          <p:nvPr/>
        </p:nvSpPr>
        <p:spPr>
          <a:xfrm>
            <a:off x="496440" y="3429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1N1: Swine Fl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0" name="Picture 8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91120"/>
            <a:ext cx="2381400" cy="22003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806040" y="6324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5N1: Avian Fl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2" name="Picture 11" descr="View Image"/>
          <p:cNvPicPr/>
          <p:nvPr/>
        </p:nvPicPr>
        <p:blipFill>
          <a:blip r:embed="rId5"/>
          <a:stretch/>
        </p:blipFill>
        <p:spPr>
          <a:xfrm>
            <a:off x="6772320" y="0"/>
            <a:ext cx="2371680" cy="23814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2"/>
          <p:cNvSpPr/>
          <p:nvPr/>
        </p:nvSpPr>
        <p:spPr>
          <a:xfrm>
            <a:off x="5572440" y="3808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asl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14" descr="View Image"/>
          <p:cNvPicPr/>
          <p:nvPr/>
        </p:nvPicPr>
        <p:blipFill>
          <a:blip r:embed="rId6"/>
          <a:stretch/>
        </p:blipFill>
        <p:spPr>
          <a:xfrm>
            <a:off x="6811920" y="3429000"/>
            <a:ext cx="2332080" cy="3429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5"/>
          <p:cNvSpPr/>
          <p:nvPr/>
        </p:nvSpPr>
        <p:spPr>
          <a:xfrm>
            <a:off x="7315200" y="3048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epatit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6" name="Picture 17" descr="View Image"/>
          <p:cNvPicPr/>
          <p:nvPr/>
        </p:nvPicPr>
        <p:blipFill>
          <a:blip r:embed="rId7"/>
          <a:stretch/>
        </p:blipFill>
        <p:spPr>
          <a:xfrm>
            <a:off x="3124080" y="5335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5435280" y="2438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ab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8" name="Picture 20" descr="West-Nile-W-450"/>
          <p:cNvPicPr/>
          <p:nvPr/>
        </p:nvPicPr>
        <p:blipFill>
          <a:blip r:embed="rId8"/>
          <a:stretch/>
        </p:blipFill>
        <p:spPr>
          <a:xfrm>
            <a:off x="3962520" y="3276720"/>
            <a:ext cx="2438280" cy="25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1"/>
          <p:cNvSpPr/>
          <p:nvPr/>
        </p:nvSpPr>
        <p:spPr>
          <a:xfrm>
            <a:off x="3303000" y="5867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est Nile Vir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D BY BACTE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antibiotics to cure bacterial inf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tibiot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a chemical that can kill bacteria without harming a person’s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 can develop a resistance to antibiotic and will no longer ki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what happens when you do not take medicine complete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57440" y="1600200"/>
            <a:ext cx="267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yme Disease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pros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l Mening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S CAUSES BY PROT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ists that cause each of these diseases are caused by parasi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asite is an organism that takes nourishment or habitat from another organ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cases do not kill the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410080" y="1600200"/>
            <a:ext cx="251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ysen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laria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2895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ACTERISTICS OF ORGANIS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are composed of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perform certain chemical processes such as growth and dig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can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either make their own nutrients or ingest nutrients from the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iving things respond to stimuli such as light and tou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629400" y="4829040"/>
            <a:ext cx="2257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PROKARYO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t microbes are prokaryo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ist almost every where on ear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s that do not have a nucle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ains a rigid cell wall, cytoplasm and ribosom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ntifying Prokaryote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Sha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so23_09"/>
          <p:cNvPicPr/>
          <p:nvPr/>
        </p:nvPicPr>
        <p:blipFill>
          <a:blip r:embed="rId1"/>
          <a:stretch/>
        </p:blipFill>
        <p:spPr>
          <a:xfrm>
            <a:off x="5715000" y="1143000"/>
            <a:ext cx="31878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ACTERIA"/>
          <p:cNvPicPr/>
          <p:nvPr/>
        </p:nvPicPr>
        <p:blipFill>
          <a:blip r:embed="rId1"/>
          <a:stretch/>
        </p:blipFill>
        <p:spPr>
          <a:xfrm>
            <a:off x="5638680" y="457200"/>
            <a:ext cx="3272040" cy="62485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521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BACTERIUM SHAP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21896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cc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Sphere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Bacill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Rod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pirrilli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~ Spiral shaped bac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TERIAL SHAP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closed by a cell wa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cytoplasm and hereditary material of the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bsomes are the only organelle found in the cytopla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6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omic Sans MS"/>
              </a:rPr>
              <a:t>WHAT ARE VIRUS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57400" y="12193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virus is a non-cellular particle made up of genetic material and protein that can invade living cells and reproduc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viruses"/>
          <p:cNvPicPr/>
          <p:nvPr/>
        </p:nvPicPr>
        <p:blipFill>
          <a:blip r:embed="rId1"/>
          <a:stretch/>
        </p:blipFill>
        <p:spPr>
          <a:xfrm>
            <a:off x="380880" y="1600200"/>
            <a:ext cx="1752840" cy="2374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int6"/>
          <p:cNvPicPr/>
          <p:nvPr/>
        </p:nvPicPr>
        <p:blipFill>
          <a:blip r:embed="rId2"/>
          <a:stretch/>
        </p:blipFill>
        <p:spPr>
          <a:xfrm>
            <a:off x="152280" y="4389480"/>
            <a:ext cx="3353040" cy="2468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HIV-Structure"/>
          <p:cNvPicPr/>
          <p:nvPr/>
        </p:nvPicPr>
        <p:blipFill>
          <a:blip r:embed="rId3"/>
          <a:stretch/>
        </p:blipFill>
        <p:spPr>
          <a:xfrm>
            <a:off x="5715000" y="4206960"/>
            <a:ext cx="32767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RUS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the ability to reproduce, viruses lack nearly every characteristic of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composed of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respond to stimu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use energy for growth and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electron microscope to s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omic Sans MS"/>
              </a:rPr>
              <a:t>VIRAL STRU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Viruses_Vstructure-ntxt_sx5777b3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953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Viruses_Vstructure-text_sx5777b3"/>
          <p:cNvPicPr/>
          <p:nvPr/>
        </p:nvPicPr>
        <p:blipFill>
          <a:blip r:embed="rId2"/>
          <a:stretch/>
        </p:blipFill>
        <p:spPr>
          <a:xfrm>
            <a:off x="5181480" y="1523880"/>
            <a:ext cx="37339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EA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change that disrupts the normal function of one or more body syste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oninfectious dis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iseases caused by exposure to certain chemicals or traits that are inherit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fectious dis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iseases caused by a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thog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ny microbe that causes disease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0:11:08Z</dcterms:created>
  <dc:creator>Alisha Flores</dc:creator>
  <dc:description/>
  <dc:language>en-US</dc:language>
  <cp:lastModifiedBy>jcameron</cp:lastModifiedBy>
  <dcterms:modified xsi:type="dcterms:W3CDTF">2012-10-10T19:56:39Z</dcterms:modified>
  <cp:revision>48</cp:revision>
  <dc:subject/>
  <dc:title>Viruses &amp; Bacteria</dc:title>
</cp:coreProperties>
</file>